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1.png" ContentType="image/png"/>
  <Override PartName="/ppt/media/image16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8.png" ContentType="image/png"/>
  <Override PartName="/ppt/media/image7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BD38-2A5C-4BEB-8632-4BB12B263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8265-4AC4-4558-8BED-ACC2B6BF9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51A8-9FE5-44D7-9C74-43F14E759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F22B-5D9A-4573-8CF2-B9E13BBCD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6497E-4499-49F8-A842-9BEDB11A7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72C03-57AD-452F-91A2-AA77820D3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59479-5A8C-48D2-A347-4BE80FC9D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1D48A-9CAB-4A75-9906-5CCD0CFB9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B3498-7C24-450E-937D-05075AF8A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63825-C9B0-428B-AC80-23272588B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FF0BA-052D-4199-A99B-A50B11DB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56E5-A6B5-4767-8643-71EBCBB4A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0D701-2C55-40AF-ACD8-BD6BF18D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A259B-0A41-4A7B-96AE-43414B1A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125D5-212E-4F69-BD1D-C6F961EAC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C6AF3-197F-42DA-8625-3F4A21082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F7AD6-EC59-4E87-B946-60ACA2A8B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7270-D55B-40DC-970A-2F59427CF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205D-D5B9-4FAC-A495-E7EE248EF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3F8B-2657-4EFC-B325-C48789DC3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3608-307A-4C98-8AA5-C15D7098E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536E-DD40-45A9-996A-FE11D2D1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6649-63F6-4478-A283-EB209AEB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FB4E-4A98-4AD7-81B2-CD7C93A3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2F018-7B42-4248-A0B7-B39BC04DC9A8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91203-72D0-41D4-8590-C699D7411892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Arial"/>
              </a:rPr>
              <a:t>Narrative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 Level Media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5580000" y="4114800"/>
            <a:ext cx="3240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</a:rPr>
              <a:t>Roland Barth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Action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vents within a story that we know will be significant in the narra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metallic sound of a gun being cocked signifies that a shooting will take pl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shorthand way to signify a scene of viol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action signifies another action and so the narrative progre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6819840" y="0"/>
            <a:ext cx="232416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</a:rPr>
              <a:t>Tvzetan Todorov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Bulgarian theor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 reduced the concept of narrative to a simple recurring formu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quilibrium – disequilibrium – new equilib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6524640" y="51148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"/>
          <p:cNvPicPr/>
          <p:nvPr/>
        </p:nvPicPr>
        <p:blipFill>
          <a:blip r:embed="rId2"/>
          <a:stretch/>
        </p:blipFill>
        <p:spPr>
          <a:xfrm>
            <a:off x="2050920" y="4437000"/>
            <a:ext cx="320364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</a:rPr>
              <a:t>Todorov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narrative starts with a state of equilibrium or harmo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g. A peaceful community getting on with and enjoying li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o this stability comes a force of disequilibrium or disru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g. An evil outsider intent on destroying the sense of well be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y some mechanism such as the intervention of another outside agency, the force of evil is overcome and order/harmony are restored in the form of a new equilibri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</a:rPr>
              <a:t>Todorov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oose a fictional or non-fictional text of your ch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about how it follows Todorov’s model of narra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2627280" y="4005360"/>
            <a:ext cx="392436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</a:rPr>
              <a:t>Levi Straus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483920"/>
            <a:ext cx="792504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nary op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arrative tension is based on opposition or confli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it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ro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ill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oo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7340760" y="0"/>
            <a:ext cx="18032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</a:rPr>
              <a:t>Function of character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racter is an important aspect of narrative, particularly in fictional tex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soap operas certain character types consistently reoccur to the point where they become stereotyp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umpy old people…anger ridden teenag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ouping people into different categories like this is called character typolo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</a:rPr>
              <a:t>Vladimir Prop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ussian structuralist who studied fairy t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e established a number of character types and functions associated with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e suggested the functions were limited to 3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is possible to use Propp’s theory to fit the character types in a range of texts, especially feature fil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8005680" y="0"/>
            <a:ext cx="113832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</a:rPr>
              <a:t>Characters and Func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h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vill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donor (offers gift with magical propert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dispatcher (sends hero on a miss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helper (aids he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princess (hero’s rewa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6732720" y="1052640"/>
            <a:ext cx="2066760" cy="14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</a:rPr>
              <a:t>Activit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dentify these characters in a fairy tale of your ch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dentify these characters in a Bond film (or any action fil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pply the functions to a soap opera of your ch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the functions work in more modern films, such as ‘Lord of the Rings’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</a:rPr>
              <a:t>Prop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Easten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at and Alfie’s wed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illain – Andy H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ro – Alfie, stops Kat from marrying a cruel m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at tells Alfie she wants it to snow on her wedding day (dispatch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an aids Alfie in the preparations (help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fie uses a snow machine to make it snow (don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ro gets princess – Alfie gets Kat (princes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50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The A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ro – A Team (Hannib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illain – the government/companies/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nor – Hannibal – plan comes tog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lpers – Face, BA, Murdo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patchers – those who employ them to fight their batt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ncess – Face gets the girl they are helping at the e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"/>
          <p:cNvPicPr/>
          <p:nvPr/>
        </p:nvPicPr>
        <p:blipFill>
          <a:blip r:embed="rId1"/>
          <a:stretch/>
        </p:blipFill>
        <p:spPr>
          <a:xfrm>
            <a:off x="2484360" y="333360"/>
            <a:ext cx="2016360" cy="1446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"/>
          <p:cNvPicPr/>
          <p:nvPr/>
        </p:nvPicPr>
        <p:blipFill>
          <a:blip r:embed="rId2"/>
          <a:stretch/>
        </p:blipFill>
        <p:spPr>
          <a:xfrm>
            <a:off x="6588000" y="260280"/>
            <a:ext cx="223200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</a:rPr>
              <a:t>**Key Term**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Narr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way in which the story is told in both fictional and non-fictional tex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rrative is a very powerful force that not only helps us make sense of the world, but also influences our behavio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media producers narrative is an important tool for organising seemingly random and incoherent events into a coherent and logical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rrative can be used as a potent means of influencing the responses of an audience to a particular ev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is determined by the way in which the information is presen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</a:rPr>
              <a:t>Homework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pp’s analysis may be applied to film with an amazing degree of accuracy, providing it is applied to straightforward narrat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is impossible to analyse films with more complicated narrat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cuss the above, with reference to at least three films of your ch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</a:rPr>
              <a:t>Key questions to ask..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09480" y="1412640"/>
            <a:ext cx="792504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is the narrative organised and structur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is the audience positioned in relation to the narrati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are characters delineated? What is their narrative function how are heroes and villains crea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techniques of identification and alienation are employ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is the role of features like sound, music, iconography, genre, mise-en-scene, editing etc within the narrati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are the major themes of the narrative? What values/ideologies does it embod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</a:rPr>
              <a:t>Examp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 we are being told about a conflict, in a western or gangster movie, the narrative often unfolds in such a way as to make us take sides, in support of one party or the 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‘Butch Cassidy…’ we are firmly positioned on the side of Butch and Sund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arrative can be used to position the audi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5867280" y="5013360"/>
            <a:ext cx="29340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</a:rPr>
              <a:t>Theor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Den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can you see in the picture/on the pag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Conn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oes the image suggest or imp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6"/>
          <p:cNvSpPr/>
          <p:nvPr/>
        </p:nvSpPr>
        <p:spPr>
          <a:xfrm>
            <a:off x="684360" y="170028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dia theorists try to help us understand how we find meaning in a tex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7"/>
          <p:cNvSpPr/>
          <p:nvPr/>
        </p:nvSpPr>
        <p:spPr>
          <a:xfrm>
            <a:off x="611280" y="285264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oland Bart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8"/>
          <p:cNvSpPr/>
          <p:nvPr/>
        </p:nvSpPr>
        <p:spPr>
          <a:xfrm>
            <a:off x="1692360" y="573264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inster.....the colour red....a skinny gi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OldMan2-1000x15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Woman%20In%20Bl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tower_block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aids-strassenkids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</a:rPr>
              <a:t>Roland Barth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Enigma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going to happ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arrative will establish enigmas or mysteries as it goes alo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sentially, the narrative functions to establish and then solve these myste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in a film there is usually a central enigma that is resolved at the 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udiences take pleasure in anticipating what might happ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g. Me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18:05:42Z</dcterms:created>
  <dc:creator>niall</dc:creator>
  <dc:description/>
  <dc:language>en-US</dc:language>
  <cp:lastModifiedBy>Grainne</cp:lastModifiedBy>
  <dcterms:modified xsi:type="dcterms:W3CDTF">2010-10-08T11:44:47Z</dcterms:modified>
  <cp:revision>10</cp:revision>
  <dc:subject/>
  <dc:title>Narrative</dc:title>
</cp:coreProperties>
</file>